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08C0919-0AD3-4EC2-8DB3-E8BC775903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6F847A6-DE18-4A7A-879F-B49FD81C0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A62468F-832E-453F-AF61-E0B4C62918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4EE6-F2E2-4A5F-8ACD-1C646B04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209-BEB4-4F62-BD10-981872C3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9A80-7C26-470A-B144-84AED70D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6A2-E580-4AFE-829E-2D69B326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568C-2642-4743-AF1A-23BB404A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10A8-25CD-4DCF-BFF8-7FAB7CEC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438-CABF-40C8-BBA2-E0A0C6C1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8D27-62BC-461B-8770-16FCC5A1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69E-B672-42F0-AC1E-CEDFD97B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40CC-B036-4ACB-9F4F-27DF46F4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955-C5C5-45B3-93DF-519C0ABD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599A-57E5-411F-90DF-338DBAA1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B4C541A-46F9-4B25-BDDD-F17C98191E01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4C5772A-482E-42F0-8CC1-FDC2BD1897CC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040200" y="685800"/>
            <a:ext cx="7920" cy="6629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0" y="762120"/>
            <a:ext cx="2666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Phon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tegorize spelling words into 2 groups; short a and short i vowel sou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.  cat        s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n     chic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629400" y="2746440"/>
            <a:ext cx="2800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omo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Write homophones for the following words. Then write a sentence for each of the word pairs. ex. (meet, meat) I will meet my friend at the park.  My mom will buy meat for di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 bare, red, see, blue, sum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160800" y="4952880"/>
            <a:ext cx="3279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urrent ski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Grammar)  Adding 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ke the following sentences more interesting by adding more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x. I see a house.  I see a big green house with a ga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y dog runs fa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tiger is in the ri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rabbit hops aw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cat is by the firepl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ve cows are in the fie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629400" y="76212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ling (.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out a story you are reading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52280" y="2746440"/>
            <a:ext cx="264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estion (?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be answered by a story’s main character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352680" y="1219320"/>
            <a:ext cx="25606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each word 3 times in your best handwri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0" y="5257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nbow Spell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udents may type (preferred) or write each word with vowels and consonants in a different font style or co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321000" y="2870280"/>
            <a:ext cx="295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e a character sketch about someone you know (a relative or a friend).  Tell what the person is like.  Describe how they look.  What things do they say that make you smile or laugh?  Tell about their character (honest, responsible, fair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781680" y="5029200"/>
            <a:ext cx="256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5 sentences that us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otation (“ ”) mark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show someone speaking. Write a conversation by the characters in your 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0" y="0"/>
            <a:ext cx="937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lling Homework for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Dragon Gets By.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udents must complete Tic-Tac-Toe (three in a row – and they must use the center square). All work should be completed in the student’s homework journal. The journal, with completed work,  and the board, with parent initials are due: __________________________________________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7924680" y="457200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r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itials:__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2"/>
          <p:cNvSpPr/>
          <p:nvPr/>
        </p:nvSpPr>
        <p:spPr>
          <a:xfrm>
            <a:off x="4648320" y="7010280"/>
            <a:ext cx="1904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19:24:00Z</dcterms:created>
  <dc:creator> </dc:creator>
  <dc:description/>
  <dc:language>en-US</dc:language>
  <cp:lastModifiedBy> </cp:lastModifiedBy>
  <cp:lastPrinted>2009-03-12T10:54:35Z</cp:lastPrinted>
  <dcterms:modified xsi:type="dcterms:W3CDTF">2009-09-07T22:13:45Z</dcterms:modified>
  <cp:revision>14</cp:revision>
  <dc:subject/>
  <dc:title>Slide 1</dc:title>
</cp:coreProperties>
</file>